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53B1-E0A9-4FFB-97EC-64FF2292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1131-C308-49EC-A805-4914CDDC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9F55-4737-4B9E-AFE5-9F6EB202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317-FF3B-44B4-BE82-F16166B9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E614-0E60-4F18-B0FE-B019C004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55A-F83A-4630-BAB3-4DB45DFE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EEB-89B3-442F-8E94-E69E9843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C463-ADB2-4CFB-9BF7-AE33B58F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0593-CA29-4520-9CFE-DF197C6D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9782-EF0E-4B51-A730-1AA24AE8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70E-59A4-413A-889A-4EBE688D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C34-8140-43D4-A851-3D16B99E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7B23-EA89-40F5-8B84-39F6C75D0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91040" y="6143760"/>
            <a:ext cx="27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3: Tapered Stent Graft (EndoFit-LeMaitre Vascular)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457440" y="743040"/>
          <a:ext cx="2229120" cy="53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7440" y="743040"/>
                    <a:ext cx="2229120" cy="53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21:00:36Z</dcterms:created>
  <dc:creator>Mauro</dc:creator>
  <dc:description/>
  <dc:language>en-US</dc:language>
  <cp:lastModifiedBy>Mauro</cp:lastModifiedBy>
  <dcterms:modified xsi:type="dcterms:W3CDTF">2007-04-19T21:42:34Z</dcterms:modified>
  <cp:revision>6</cp:revision>
  <dc:subject/>
  <dc:title>Presentazione di PowerPoint</dc:title>
</cp:coreProperties>
</file>